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360" y="417348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1680" y="1904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360" y="417348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1680" y="417348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6520" y="1904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2680" y="1904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360" y="417348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86520" y="417348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2680" y="417348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3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1680" y="190476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533520"/>
            <a:ext cx="7238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1680" y="190476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360" y="417348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904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1680" y="417348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1680" y="1904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360" y="417348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3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-248400">
              <a:spcBef>
                <a:spcPts val="9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94320" indent="-19872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392120" indent="-198720">
              <a:spcBef>
                <a:spcPts val="9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789920" indent="-198720">
              <a:spcBef>
                <a:spcPts val="9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Cross-Currents of Reform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0370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form have a trickle down effect, for exampl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egislatures require more math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eachers resent rigid regulatio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ore math teachers are need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eachers are pulled into class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olleges add more cours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ew tests are creat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8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forms rarely go out with a bang, they just fade away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Who is in Charge of Curriculum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Constitution vests local authority over education in state governmen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Who is in Charge of Curriculum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5142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et, the state requir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number of day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ength of hours in 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teachers are certified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ch textbooks will be us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Who is in Charge of Curriculum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federal government implement laws and executive orders concerning educ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CL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cial Integ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tle I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Who is in Charge of Curriculu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extbook compan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esting Agenc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9814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2819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urriculum reform can be seen as ongoing process of negotiation between national and local intere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and reflects America’s desire for decentralized control and a common curriculum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articular times call for curriculum reform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ometimes they come from the perception that what we are doing isn’t work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1337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form is a prime example of “problem-centered” approach to curriculum chang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238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When Reform occurs, it is the teacher who has to make it work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istorical Reform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930’s – replacing phonics for read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950 – new math- teaching by discover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957 – Sputnik – scie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960’s – improving education for disadvantag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istorical Reform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983 – A Nation at Risk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ore recen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arter Schoo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uch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als 200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 Child Left Behi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lobal edu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Anatomy of Reform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roups join together to change educ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roups often try to bypass educators and work directly with legislato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Reform is the fastest, most widespread way to make major chang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Anatomy of Reform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Reform is seen as challenge to authority over curriculum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impact of changes can last generatio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Anatomy of Reform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ome reforms happen outside the established institutional framework of school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an be looked at as a miniature revolu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21:21:24Z</dcterms:created>
  <dc:creator>User</dc:creator>
  <dc:description/>
  <dc:language>en-US</dc:language>
  <cp:lastModifiedBy>Carlette Hardin</cp:lastModifiedBy>
  <dcterms:modified xsi:type="dcterms:W3CDTF">2005-11-06T03:23:08Z</dcterms:modified>
  <cp:revision>2</cp:revision>
  <dc:subject/>
  <dc:title>Cross-Currents of Reform</dc:title>
</cp:coreProperties>
</file>